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50F-8993-4630-AF73-D88568E4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AA3-0E7E-4C30-AA06-7164D0EE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3FA-81C6-40EB-AC73-91086090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916-20C5-491E-B3DD-1F2AE5F6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9B7-CE7E-430B-8E61-9913E46E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21D-D295-4780-AC39-3C7C35C4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670-CD81-40DE-810E-5960124C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9C4-33E2-474D-BEE0-60B01218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E97-E8A1-4A3B-B41A-677C68D7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165-C959-4D4E-A7E4-FCBD1BF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D47-6985-4AE8-8617-0542EB5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032-4762-49EB-8FF3-FBB7EB3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43B0-658D-47C5-9016-50198DBB2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sa para la Ven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971800" cy="197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106668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asa grande es muy bonita. Tinene viente cuartos. La casa es en Las Angeles, CA. La casa tiene diez dormitorios. Cuesta mucho. Cuesta $24,000,000.04. Una piscina y un enorme patio. El direccion es 345 Park Street. Es Fabulous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4:13:04Z</dcterms:created>
  <dc:creator>wilsonaleah</dc:creator>
  <dc:description/>
  <dc:language>en-US</dc:language>
  <cp:lastModifiedBy>wilsonaleah</cp:lastModifiedBy>
  <dcterms:modified xsi:type="dcterms:W3CDTF">2012-05-29T18:45:24Z</dcterms:modified>
  <cp:revision>5</cp:revision>
  <dc:subject/>
  <dc:title>La casa para la Venta </dc:title>
</cp:coreProperties>
</file>